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242A2613-1399-4814-BE83-BE623D81353F}"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1937143-1529-444D-9ED2-833E3E11E7D4}"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5ED1D3CC-695E-4806-87FF-2FBEF23D81DF}"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C2D4B56-A701-4A60-864D-C0E6239DF381}"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9105128F-4287-488F-891A-83BED637FDBE}"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7EDB6F65-68CA-459D-8FFA-F016E6C14752}"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CD10FAC8-944C-444A-97EF-691D0827D5AA}"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8371837-0364-4BC4-A83B-AFC3A4F0A4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28E044-7ABA-4859-B7D9-762DEC4BB2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200123-B793-4D00-A808-F89868FCCA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286D2B-E8C5-4E64-AFAC-A35727E3A5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4F42AC-D703-4AFA-BB09-02B703F2D9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11F9A7-7627-4D66-B200-00A79DF2DD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8F4D5F-AEFF-41F2-8874-AF80D08F8F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D0299B-A023-4D33-BA0F-45F3D3E02A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2DB8F4-B882-48F7-BCCB-11D7B2BCCE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B19A31-A116-488D-8099-1825238BA5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29ABD8-27B0-446B-A1A4-5E907DD95B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340C5D-FED7-47FF-B1C8-3702A9F7C1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6CF268-687B-4755-B312-E8FDBA7412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927F30-06DF-458E-90BF-B54522D43D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ED8685-C6B1-455D-A174-BD11A0AD37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19F99F-57ED-483F-A920-C87AF8EFF9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F56D7B-10C2-42D4-B8E8-D4AB3FB50B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8B9782-6D23-477B-A6AD-3F17041A99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86B2D2-3B82-4FC1-8922-75E862E0F2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035EAE-DC62-4E56-804C-3E2946C912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C3EED8-4255-46DC-A179-BD83B8F01B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AE6C47-7EC4-440C-BC4C-C76B1EC1B5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141EC0-4664-4A0E-99F0-963004F085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24A400-3124-4A11-9B06-D4E212BAAC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5D1A3-0D57-4E69-A6F6-6BDACF562E02}"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B4CCA-6493-4665-9816-4639888E00A4}"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B9E4070A-6757-490F-A474-AAA92761B9BD}" type="datetime3">
              <a:rPr b="0" lang="en-US" sz="2000" spc="-1" strike="noStrike">
                <a:solidFill>
                  <a:srgbClr val="ffffcc"/>
                </a:solidFill>
                <a:latin typeface="Tahoma"/>
              </a:rPr>
              <a:t>July 28,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