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DBB4-0B4D-4FE3-BAE1-322F19B45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0951-34D3-401E-8BAE-34AF7AB99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EF71-DD46-4DAA-8AE7-856F67A02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3F2E-E166-48BF-A1D6-39F1FF3D6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937D-43DE-43C2-8FC7-93BFA1CFE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30D4-24BF-4E26-B58C-66B2969CD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2F67-D53D-442D-A1C3-EBDA7D3ED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1CB9-E4D1-445B-A4A6-EECAF5E9A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2390-E5F0-45D6-B69D-4E346B1CD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2E2D-7236-4084-AF23-1C0EECD90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D299-FC35-4C56-B80C-9F7AAFE6F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E8C7-CA90-4542-AA57-7074C3F87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B584E-8EE0-446E-BD6A-F2D7ACF4B2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napshot of Understa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er J. Bra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Wat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et Headers (60 octet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dentify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moteHand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ender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Hand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ceiverHandle (not nee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4 octets: SE, Color, 2 for R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? Checks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qNumb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goes up by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Co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decipher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Fl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DataOff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ysI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hand to sub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m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istributed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t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ide eff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collection of h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purpose is to do a “pre” and “post” RPC processing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tch(0x21.0x3.0x6) initiates and completes a side effect in RPC2 stub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hooks are functions: at setup, binding, before and after RPC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hook in the connection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deEffect are not part of RPC2 protocol but a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bind and RP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838080"/>
            <a:ext cx="91440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authenticated Bind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170172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15746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91440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914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447660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142640" y="4324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2587680"/>
            <a:ext cx="3886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a Centry for this conne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ndling runs inside SocketListen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 system higher up run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2_NEWCONNECTION c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g ViceNewConnec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73880" y="5667480"/>
            <a:ext cx="319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is told SenderHandle of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state set to C_THINK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28600" y="2708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27440" y="220968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497844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nds same packet back with fix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inform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62120" y="601992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525780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49568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8098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1240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24382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7524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0666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09480"/>
            <a:ext cx="91440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763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ce &amp;Callback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1937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53352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533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187956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143000" y="2057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1680" y="31240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callback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there isn’t one yet for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28600" y="2098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05280" y="10666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17524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565360"/>
            <a:ext cx="18288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Connect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24382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320040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39369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38098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4524480"/>
            <a:ext cx="283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ify Client is working, make a gratuitous call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4622760"/>
            <a:ext cx="129528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538488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535608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callback request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55846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279396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14479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114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143000" y="34290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3000" y="6324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143000" y="4800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617220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6048360"/>
            <a:ext cx="28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ConnectFS now compl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C2 manual describes API, we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etails about inter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implementation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g fixes: security, laptop networking, 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bly more clarity in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protocols will accompany some bug fi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gnore all MultiRPC and Failure pac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decisions will have to take these into ac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in RPC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yers are not clearly sepa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lying design does allow good lay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with ISO stack and relate to it where appropriate, ie at network and transport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ep in mind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39625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8195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01560" y="5464080"/>
            <a:ext cx="564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ese types of code are m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al Abst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Buffers: header, body; sit in a p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y: RPC2 logical connect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s: point to Centry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Entry’s: handles for packets, with retry info, destination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ntry: Encode remote host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5486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4724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40280" y="563868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47401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447920"/>
            <a:ext cx="441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le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 adap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Connections with hand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format, header X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48006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Transport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5627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ware Protoco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4724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XD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447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sub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46483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9113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remote procedur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arsh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14479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e.rpc2, callback.rpc2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the “Coda protocols”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28954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RPC is specified by an integer and takes arguments which are of such and so a typ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6668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7242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guments for RPC’s are to be packed and unpacked in the following way. (Language Independ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715000" y="5410080"/>
            <a:ext cx="28954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3352680"/>
            <a:ext cx="2895480" cy="1524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ndto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use socket 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 remote port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Xmit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838080"/>
            <a:ext cx="289548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buffer hand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is SL_E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rrange reliable trans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yield to Socket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cide on Sle-&gt;return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liably &amp; snipp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3962520"/>
            <a:ext cx="289584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gical 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name is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map Handle to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await correct stat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encryption of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nippets of code all 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.g. in RPC2_MakeR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ocate buff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marshalling of ar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voke SideEff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op and botto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895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429000" y="2590920"/>
            <a:ext cx="21337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8660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920" y="-57240"/>
            <a:ext cx="40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o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spon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violates lay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219320" y="289548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486400" y="1447920"/>
            <a:ext cx="28954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cod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pl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OldRequest: retrans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quest:  bus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NewReques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Decode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971800"/>
            <a:ext cx="289584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 is RPC2_Packet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allocate buff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o recv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extract sender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XDR on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pc2_Recv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685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twork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eives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hands to UDP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505320" y="1676520"/>
            <a:ext cx="19047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87720" y="-46080"/>
            <a:ext cx="43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828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ds socket, wakes up 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OMgr hands to SocketListe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0024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763120" y="1828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3124080"/>
            <a:ext cx="2895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system Layer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SLEntry, locate recip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wake it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indRecipient, DeactivateS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3505320"/>
            <a:ext cx="221004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ke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n marshall, trans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rrors, return from 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tub code &am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4648320"/>
            <a:ext cx="2819160" cy="1447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??_GetRequest unmarshall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ecute server RPC hand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resp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181480"/>
            <a:ext cx="289584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nection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late SenderHandl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_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if no CE_Entry: Handle_INIT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ecry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code lying all 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25909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5867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17:10:43Z</dcterms:created>
  <dc:creator>Braam</dc:creator>
  <dc:description/>
  <dc:language>en-US</dc:language>
  <cp:lastModifiedBy>Braam</cp:lastModifiedBy>
  <cp:lastPrinted>1998-03-18T15:56:12Z</cp:lastPrinted>
  <dcterms:modified xsi:type="dcterms:W3CDTF">1998-03-18T19:42:36Z</dcterms:modified>
  <cp:revision>9</cp:revision>
  <dc:subject/>
  <dc:title>RPC2</dc:title>
</cp:coreProperties>
</file>